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25BB-4AFA-4CFF-A154-4CD5063F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26E7-B90D-412C-A0C7-55058BDD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F28A-C739-46CE-9CD2-C6E2586A7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4D8A-8C04-4DFB-AB01-CE2871E2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B572-0865-4C92-BBEC-66DB0EBA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A263-8F3E-4DF8-BDB0-33BCA188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B781-BFF1-4B61-8A5E-6F0BF077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C900-92FA-44AF-A1B0-075846DF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BDA7-5793-4CC4-8EEC-B59D274C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689E-32D6-423E-B370-03214589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99E0-2383-476E-8BEE-9ADF6C87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0830-6152-41A0-9C52-A621B3DF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37AD-6159-4831-9E54-7FEC7EDF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CFC6-D949-4453-951A-C7662AA2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0764-2899-4A5A-A49E-32D4E176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8751-7B43-4A48-81ED-785F8293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093B-7762-4557-A72E-91F65296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144A-2A74-4C9D-93DC-88D8B0C8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4486-FC7C-46D0-90B2-1A92430A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7EA-E497-4D0D-91B0-6002D730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C40-477F-4D04-BD89-174EF4F0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147A-BFFD-4313-A958-DCE068A4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E369-E585-44C7-A7B0-EAC2C5FD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C301-91FE-4648-AE14-825706CF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C066-58E8-47AF-AC6C-BA8EEEA3906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FF07-921C-460A-BAF4-27C27365F62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750960"/>
            <a:ext cx="80010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meline of the European Un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 November: the Berlin Wall opens. East Germans can now travel to West Germany via Berl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 June: The Schengen Agreement is signed. This abolishes border checks between participating member states of the European Commun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October: Germany is reuni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astricht Treaty on the European Union is signed (to enter into fforce on 1 November 1993). The basic components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mon foreign security 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er cooperation on justice and home affai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on of an economic and monetary un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January: The Single Market is cr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January: Austria, Finland, and Sweden join the European Un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October: The Amsterdam Treaty is signed (to come into force 1 May 1999). This treaty gives the EU new powers and responsi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January: The Euro replaces the currencies of 11 EU countries (Austria, Belgium, Finland, France, Germany, Ireland, Italy, Luxembourg, the Netherlands, Portugal and Spain*). This single currency is first launched on the money marke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347920" indent="-295200" algn="r"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Greece eventually joins these Euro countri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6 February: To prepare the EU’s decision making system for enlargement, the Treaty of Nice is signed (to come into force 1 February 200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January: The Euro (bank notes and coins) comes into circulation in the Euro area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1 May: The 15 EU member states ratify the Kyoto Protocol, which calls for worldwide reduction of air pol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May: Ten new states join the European Union: Cyprus, the Czech Republic, Estonia, Hungary, Latvia,, Lithuania, Malta, Poland, Slovakia, and Slov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46 - 19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needs to recover from the effects of WW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aid from the United States, European countries begin post-war reconstru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ions start about the possibility of cooperation between several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January: Romania and Bulgaria join the European Union, bringing the total number of member states to 27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uroz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111560" cy="45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5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pril 18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ance, Belgium, the Netherlands, Luxembourg, Germany, and Italy (also known as The Six), sign the Treaty of Pari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establishes the European Coal and Steel Community (ECS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rpose: to make decisions about the coal and steel industry in these countr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 President: Jean Monn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5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x” signs the Treaties of Rome – treaties that established the European Economic Community (ECC) and the European Atomic Energy Community (Eurat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: Now there are three European “communities”: the ECSC, the EEC, and Eurato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6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8: “The Six” signs the Merger Treaty in Bruss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eaty merges the executives of the three Communities (the ECSC, ECC, Euratom), giving them a Single Commission and  Single Counc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ed into force 1 July 19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1752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this point in time on, this web site will refer to these three communities as the “European Community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7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January: Denmark, Ireland, and the United Kingdom join the European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il crisis affects the European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7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 March: The European Monetary System (EMS) enters into force. The EMS is based on a European currency unit, whose value is based on several national currencies, weighted according to the relative strength of each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-10 June: for the first time, the members of the European Parliament are selected by direct ele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8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January: Greece joins the European Commun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January: Spain and Portugal join the European Commun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 &amp; 28 February: The Single European Act is signed (to come into force 1 July 1987). The SEA is a wide revision of the 1957 Treaties of Rome, and includes issues such as the single mark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13:21:22Z</dcterms:created>
  <dc:creator>KITTYLAM</dc:creator>
  <dc:description/>
  <dc:language>en-US</dc:language>
  <cp:lastModifiedBy>Saddleback  High</cp:lastModifiedBy>
  <cp:lastPrinted>2009-04-22T19:24:48Z</cp:lastPrinted>
  <dcterms:modified xsi:type="dcterms:W3CDTF">2008-05-08T15:11:40Z</dcterms:modified>
  <cp:revision>22</cp:revision>
  <dc:subject/>
  <dc:title>Timeline of the European Union</dc:title>
</cp:coreProperties>
</file>